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2E8B-F27E-4E2B-B147-CA33595EF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549C-B962-47FC-8731-AC8C86B2B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933C-54D5-4132-8EB9-44A04B56A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E4FB-D9D5-4E57-9335-E44A67857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2110-E624-4D6F-9120-A64BEF2E2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C32E-EEBD-4F9E-9477-045518F8F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3D73-4B52-4131-B558-10D952A7B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BD05-EA6A-4ABC-82E5-72396AF3D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4EB3C-BD49-4F66-AC60-6CE4F10F0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A0C8-4563-477F-A3B4-116BAA875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CE72-8E69-4EE8-8AC3-8F2ECDE13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EC73-E473-4CBB-BC64-B86DC64B2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15A03-4FFF-4D87-9CBD-9ED136049F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licts in Multi-Ethnic Count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thern Ireland: The Troubles and the Impact of the Confli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.2 Declining Econom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onomy of N. Ireland has been aff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flict has discouraged domestic and foreign inves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eign-owned factories closed down due to high-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at of bombings drove large manufacturers a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.3 Political Refor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ivil rights marches put pressure on the N. Ireland gov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. Ireland govt announced sweeping reforms to local gov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olished unfair vo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ewed schemes for allocating government-owned ho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rou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thern Ireland Civil Rights Association (NICRA) formed in 196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by middle-class Cathol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opted non-violent methods to pro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s from trade unions, political parties and university students invol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ivil Rights Movement organised by NICRA in 1968 was the beginning of ‘The Troub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rou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the marches, fighting broke out between Catholics, Protestant and Pol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tish govt sends in troops to keep the peace (Aug 196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oops first seen as prote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relations did not last lo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rou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. Ireland govt introduced ‘internment laws’ (Aug 197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tish Army had power to arrest, interrogate and detain anyone without tr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holics lost faith in the British Army when the army began searching their homes and arresting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rou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,000 people participated in an illegal, peaceful march (Sunday, 30 Jan, 197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tish soldiers shot at protes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 dead, many woun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incident was known as Bloody Sun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as a turning point and Catholics were greatly ange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rou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1972, more violence occurred between Protestants and Cathol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holic homes and businesses were bomb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cal police did not stop the viol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tish army continued to raid Catholic h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rou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holics turned to the Irish Republican Army (IRA) for he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A attacked British soldiers and Protestant busines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ween 1969 and 1993, more than 3500 people were kil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act of the Confli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.1 Social Segreg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.2 Declining Econo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.3 Political Re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.1 Social Segrega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in N. Ireland grew up in an atmosphere of tension and viol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stants and Catholics lived, worked and played apart from one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ng people in N. Ireland could grow up not having met someone from the other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ck of understanding between the two gro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4T01:23:49Z</dcterms:created>
  <dc:creator>moe</dc:creator>
  <dc:description/>
  <dc:language>en-US</dc:language>
  <cp:lastModifiedBy>moe</cp:lastModifiedBy>
  <dcterms:modified xsi:type="dcterms:W3CDTF">2009-02-04T01:32:47Z</dcterms:modified>
  <cp:revision>3</cp:revision>
  <dc:subject/>
  <dc:title>Conflicts in Multi-Ethnic Countries</dc:title>
</cp:coreProperties>
</file>